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9.gif" ContentType="image/gif"/>
  <Override PartName="/ppt/media/image4.wmf" ContentType="image/x-wmf"/>
  <Override PartName="/ppt/media/image18.gif" ContentType="image/gif"/>
  <Override PartName="/ppt/media/image17.gif" ContentType="image/gif"/>
  <Override PartName="/ppt/media/image2.wmf" ContentType="image/x-wmf"/>
  <Override PartName="/ppt/media/image3.png" ContentType="image/png"/>
  <Override PartName="/ppt/media/image16.gif" ContentType="image/gif"/>
  <Override PartName="/ppt/media/image1.wmf" ContentType="image/x-wmf"/>
  <Override PartName="/ppt/media/image20.png" ContentType="image/png"/>
  <Override PartName="/ppt/media/image15.gif" ContentType="image/gif"/>
  <Override PartName="/ppt/media/image14.gif" ContentType="image/gi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C0A-BEBB-4EC2-9327-3E39BDBF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001-7476-41C0-B6C0-22647C17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6EB-AFC6-4554-9AFF-9B43EC31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6E3-E791-404D-BE3F-D06814F3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FDC-A711-4697-A3F7-18647424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87D-A8F8-4A8D-B4B5-2D7DB44C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DB9-D16B-4DE7-98A6-B5E99D98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E26-EC00-4302-A47A-8B73ADA8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4C0-320D-4E9D-8FF3-86116258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49D-7483-495F-A5DA-42A664C1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6E8-6F5F-499D-9105-E977372A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87C-B1B1-4759-AAD6-C7ED0E3F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3B14-4938-4E7A-8A8A-48CC0DCB7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image" Target="../media/image15.gif"/><Relationship Id="rId15" Type="http://schemas.openxmlformats.org/officeDocument/2006/relationships/image" Target="../media/image16.gif"/><Relationship Id="rId16" Type="http://schemas.openxmlformats.org/officeDocument/2006/relationships/image" Target="../media/image17.gif"/><Relationship Id="rId17" Type="http://schemas.openxmlformats.org/officeDocument/2006/relationships/image" Target="../media/image17.gif"/><Relationship Id="rId18" Type="http://schemas.openxmlformats.org/officeDocument/2006/relationships/image" Target="../media/image17.gif"/><Relationship Id="rId19" Type="http://schemas.openxmlformats.org/officeDocument/2006/relationships/image" Target="../media/image18.gif"/><Relationship Id="rId20" Type="http://schemas.openxmlformats.org/officeDocument/2006/relationships/image" Target="../media/image19.gif"/><Relationship Id="rId21" Type="http://schemas.openxmlformats.org/officeDocument/2006/relationships/audio" Target="file:///tmp/home/.config/libreoffice/4/user/gallery/&#1082;&#1072;&#1088;&#1072;&#1085;&#1076;.wav" TargetMode="External"/><Relationship Id="rId22" Type="http://schemas.microsoft.com/office/2007/relationships/media" Target="file:///tmp/home/.config/libreoffice/4/user/gallery/&#1082;&#1072;&#1088;&#1072;&#1085;&#1076;.wav" TargetMode="External"/><Relationship Id="rId23" Type="http://schemas.openxmlformats.org/officeDocument/2006/relationships/image" Target="../media/image20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676520"/>
          <a:ext cx="5943600" cy="4952880"/>
        </p:xfrm>
        <a:graphic>
          <a:graphicData uri="http://schemas.openxmlformats.org/drawingml/2006/table">
            <a:tbl>
              <a:tblPr/>
              <a:tblGrid>
                <a:gridCol w="330120"/>
                <a:gridCol w="355680"/>
                <a:gridCol w="304920"/>
                <a:gridCol w="330120"/>
                <a:gridCol w="330120"/>
                <a:gridCol w="330120"/>
                <a:gridCol w="330480"/>
                <a:gridCol w="330120"/>
                <a:gridCol w="330120"/>
                <a:gridCol w="330120"/>
                <a:gridCol w="330120"/>
                <a:gridCol w="330480"/>
                <a:gridCol w="330120"/>
                <a:gridCol w="330120"/>
                <a:gridCol w="330120"/>
                <a:gridCol w="330480"/>
                <a:gridCol w="330120"/>
                <a:gridCol w="3301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</a:tr>
            </a:tbl>
          </a:graphicData>
        </a:graphic>
      </p:graphicFrame>
      <p:grpSp>
        <p:nvGrpSpPr>
          <p:cNvPr id="42" name=""/>
          <p:cNvGrpSpPr/>
          <p:nvPr/>
        </p:nvGrpSpPr>
        <p:grpSpPr>
          <a:xfrm>
            <a:off x="6477120" y="304920"/>
            <a:ext cx="2286000" cy="3886200"/>
            <a:chOff x="6477120" y="304920"/>
            <a:chExt cx="2286000" cy="3886200"/>
          </a:xfrm>
        </p:grpSpPr>
        <p:sp>
          <p:nvSpPr>
            <p:cNvPr id="43" name=""/>
            <p:cNvSpPr/>
            <p:nvPr/>
          </p:nvSpPr>
          <p:spPr>
            <a:xfrm>
              <a:off x="6477120" y="304920"/>
              <a:ext cx="2286000" cy="388620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503640 h 3886200"/>
                <a:gd name="textAreaBottom" fmla="*/ 338256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477120" y="1371600"/>
              <a:ext cx="2286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1. Инструмент для рисования многоугольни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152280" y="152280"/>
            <a:ext cx="6019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tudioScriptCTT"/>
              </a:rPr>
              <a:t>Инструменты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tudioScriptCTT"/>
              <a:ea typeface="StudioScriptCT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tudioScriptCTT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tudioScriptCTT"/>
              </a:rPr>
              <a:t>графического редактора Paint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tudioScriptCTT"/>
              <a:ea typeface="StudioScriptCTT"/>
            </a:endParaRPr>
          </a:p>
        </p:txBody>
      </p:sp>
      <p:pic>
        <p:nvPicPr>
          <p:cNvPr id="46" name="Picture 5" descr="C:\Documents and Settings\Наш дом\Local Settings\Temporary Internet Files\Content.IE5\OLUFOX63\dglxasset[1].aspx"/>
          <p:cNvPicPr/>
          <p:nvPr/>
        </p:nvPicPr>
        <p:blipFill>
          <a:blip r:embed="rId1"/>
          <a:stretch/>
        </p:blipFill>
        <p:spPr>
          <a:xfrm rot="17893200">
            <a:off x="6475320" y="839880"/>
            <a:ext cx="2387520" cy="162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24280" y="3581280"/>
            <a:ext cx="30492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ранд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600200"/>
            <a:ext cx="30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де е 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16002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р  а   с  п  ы  л  и  т   е  л 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676520"/>
            <a:ext cx="304920" cy="46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ямоу 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0481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э  л  л  и   п 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809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м  н  о  г   о   у  г   о  л  ь  н   и 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1981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с  к  р   у  г   л  е   н н  ы 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4114800"/>
            <a:ext cx="38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3124080"/>
            <a:ext cx="38088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4800600"/>
            <a:ext cx="38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ки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4191120"/>
            <a:ext cx="38124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ли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3124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057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2743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505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5943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4572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3809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400800" y="304920"/>
            <a:ext cx="2362320" cy="3886200"/>
            <a:chOff x="6400800" y="304920"/>
            <a:chExt cx="2362320" cy="3886200"/>
          </a:xfrm>
        </p:grpSpPr>
        <p:sp>
          <p:nvSpPr>
            <p:cNvPr id="71" name=""/>
            <p:cNvSpPr/>
            <p:nvPr/>
          </p:nvSpPr>
          <p:spPr>
            <a:xfrm>
              <a:off x="6477120" y="304920"/>
              <a:ext cx="2286000" cy="388620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503640 h 3886200"/>
                <a:gd name="textAreaBottom" fmla="*/ 338256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00800" y="1067040"/>
              <a:ext cx="2210040" cy="23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2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н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струмент, рисующий круг и овал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5" descr="C:\Documents and Settings\Наш дом\Local Settings\Temporary Internet Files\Content.IE5\OLUFOX63\dglxasset[1].aspx"/>
          <p:cNvPicPr/>
          <p:nvPr/>
        </p:nvPicPr>
        <p:blipFill>
          <a:blip r:embed="rId2"/>
          <a:stretch/>
        </p:blipFill>
        <p:spPr>
          <a:xfrm rot="17893200">
            <a:off x="6475320" y="839880"/>
            <a:ext cx="2387520" cy="162252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6477120" y="304920"/>
            <a:ext cx="2286000" cy="3886200"/>
            <a:chOff x="6477120" y="304920"/>
            <a:chExt cx="2286000" cy="3886200"/>
          </a:xfrm>
        </p:grpSpPr>
        <p:sp>
          <p:nvSpPr>
            <p:cNvPr id="75" name=""/>
            <p:cNvSpPr/>
            <p:nvPr/>
          </p:nvSpPr>
          <p:spPr>
            <a:xfrm>
              <a:off x="6477120" y="304920"/>
              <a:ext cx="2286000" cy="388620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503640 h 3886200"/>
                <a:gd name="textAreaBottom" fmla="*/ 338256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3440" y="1017720"/>
              <a:ext cx="220968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3.Инструмент, который используется для обозначения границ фрагмента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5" descr="C:\Documents and Settings\Наш дом\Local Settings\Temporary Internet Files\Content.IE5\OLUFOX63\dglxasset[1].aspx"/>
          <p:cNvPicPr/>
          <p:nvPr/>
        </p:nvPicPr>
        <p:blipFill>
          <a:blip r:embed="rId3"/>
          <a:stretch/>
        </p:blipFill>
        <p:spPr>
          <a:xfrm rot="17893200">
            <a:off x="6475320" y="839880"/>
            <a:ext cx="2387520" cy="1622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Documents and Settings\Наш дом\Local Settings\Temporary Internet Files\Content.IE5\OLUFOX63\dglxasset[1].aspx"/>
          <p:cNvPicPr/>
          <p:nvPr/>
        </p:nvPicPr>
        <p:blipFill>
          <a:blip r:embed="rId4"/>
          <a:stretch/>
        </p:blipFill>
        <p:spPr>
          <a:xfrm rot="17893200">
            <a:off x="6475320" y="839880"/>
            <a:ext cx="2387520" cy="162252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6477120" y="304920"/>
            <a:ext cx="2361960" cy="3886200"/>
            <a:chOff x="6477120" y="304920"/>
            <a:chExt cx="2361960" cy="3886200"/>
          </a:xfrm>
        </p:grpSpPr>
        <p:sp>
          <p:nvSpPr>
            <p:cNvPr id="80" name=""/>
            <p:cNvSpPr/>
            <p:nvPr/>
          </p:nvSpPr>
          <p:spPr>
            <a:xfrm>
              <a:off x="6477120" y="304920"/>
              <a:ext cx="2285640" cy="3886200"/>
            </a:xfrm>
            <a:custGeom>
              <a:avLst/>
              <a:gdLst>
                <a:gd name="textAreaLeft" fmla="*/ 0 w 2285640"/>
                <a:gd name="textAreaRight" fmla="*/ 2285640 w 2285640"/>
                <a:gd name="textAreaTop" fmla="*/ 503640 h 3886200"/>
                <a:gd name="textAreaBottom" fmla="*/ 338256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77120" y="1675440"/>
              <a:ext cx="2361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Georgia"/>
                </a:rPr>
                <a:t>4. Инструмен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Georgia"/>
                </a:rPr>
                <a:t>для разбрызгивания краск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477120" y="304920"/>
            <a:ext cx="2286000" cy="3886200"/>
            <a:chOff x="6477120" y="304920"/>
            <a:chExt cx="2286000" cy="3886200"/>
          </a:xfrm>
        </p:grpSpPr>
        <p:sp>
          <p:nvSpPr>
            <p:cNvPr id="83" name=""/>
            <p:cNvSpPr/>
            <p:nvPr/>
          </p:nvSpPr>
          <p:spPr>
            <a:xfrm>
              <a:off x="6477120" y="304920"/>
              <a:ext cx="2286000" cy="388620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503640 h 3886200"/>
                <a:gd name="textAreaBottom" fmla="*/ 338256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53080" y="1219320"/>
              <a:ext cx="2210040" cy="25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5. И</a:t>
              </a:r>
              <a:r>
                <a:rPr b="0" lang="en-US" sz="2100" spc="-1" strike="noStrike">
                  <a:solidFill>
                    <a:srgbClr val="000000"/>
                  </a:solidFill>
                  <a:latin typeface="Georgia"/>
                </a:rPr>
                <a:t>н</a:t>
              </a:r>
              <a:r>
                <a:rPr b="0" lang="en-US" sz="21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струмент, </a:t>
              </a:r>
              <a:r>
                <a:rPr b="0" lang="en-US" sz="2100" spc="-1" strike="noStrike">
                  <a:solidFill>
                    <a:srgbClr val="000000"/>
                  </a:solidFill>
                  <a:latin typeface="Georgia"/>
                </a:rPr>
                <a:t>рисующий прямоугольник с изменёнными вершинами</a:t>
              </a: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477120" y="304920"/>
            <a:ext cx="2286000" cy="3886200"/>
            <a:chOff x="6477120" y="304920"/>
            <a:chExt cx="2286000" cy="3886200"/>
          </a:xfrm>
        </p:grpSpPr>
        <p:sp>
          <p:nvSpPr>
            <p:cNvPr id="86" name=""/>
            <p:cNvSpPr/>
            <p:nvPr/>
          </p:nvSpPr>
          <p:spPr>
            <a:xfrm>
              <a:off x="6477120" y="304920"/>
              <a:ext cx="2286000" cy="388620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503640 h 3886200"/>
                <a:gd name="textAreaBottom" fmla="*/ 338256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77120" y="1182960"/>
              <a:ext cx="22860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6. Инструмент, позволяющий нарисовать прямоугольник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5" descr="C:\Documents and Settings\Наш дом\Local Settings\Temporary Internet Files\Content.IE5\OLUFOX63\dglxasset[1].aspx"/>
          <p:cNvPicPr/>
          <p:nvPr/>
        </p:nvPicPr>
        <p:blipFill>
          <a:blip r:embed="rId5"/>
          <a:stretch/>
        </p:blipFill>
        <p:spPr>
          <a:xfrm rot="17893200">
            <a:off x="6475320" y="839880"/>
            <a:ext cx="2387520" cy="1622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Наш дом\Local Settings\Temporary Internet Files\Content.IE5\OLUFOX63\dglxasset[1].aspx"/>
          <p:cNvPicPr/>
          <p:nvPr/>
        </p:nvPicPr>
        <p:blipFill>
          <a:blip r:embed="rId6"/>
          <a:stretch/>
        </p:blipFill>
        <p:spPr>
          <a:xfrm rot="17893200">
            <a:off x="6475320" y="839880"/>
            <a:ext cx="2387520" cy="162252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6477120" y="304920"/>
            <a:ext cx="2361960" cy="3886200"/>
            <a:chOff x="6477120" y="304920"/>
            <a:chExt cx="2361960" cy="3886200"/>
          </a:xfrm>
        </p:grpSpPr>
        <p:sp>
          <p:nvSpPr>
            <p:cNvPr id="91" name=""/>
            <p:cNvSpPr/>
            <p:nvPr/>
          </p:nvSpPr>
          <p:spPr>
            <a:xfrm>
              <a:off x="6477120" y="304920"/>
              <a:ext cx="2285640" cy="3886200"/>
            </a:xfrm>
            <a:custGeom>
              <a:avLst/>
              <a:gdLst>
                <a:gd name="textAreaLeft" fmla="*/ 0 w 2285640"/>
                <a:gd name="textAreaRight" fmla="*/ 2285640 w 2285640"/>
                <a:gd name="textAreaTop" fmla="*/ 503640 h 3886200"/>
                <a:gd name="textAreaBottom" fmla="*/ 338256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77120" y="1614240"/>
              <a:ext cx="2361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7. Инструмент, рисующий прямую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5" descr="C:\Documents and Settings\Наш дом\Local Settings\Temporary Internet Files\Content.IE5\OLUFOX63\dglxasset[1].aspx"/>
          <p:cNvPicPr/>
          <p:nvPr/>
        </p:nvPicPr>
        <p:blipFill>
          <a:blip r:embed="rId7"/>
          <a:stretch/>
        </p:blipFill>
        <p:spPr>
          <a:xfrm rot="17893200">
            <a:off x="6475320" y="839880"/>
            <a:ext cx="2387520" cy="162252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6400800" y="304920"/>
            <a:ext cx="2362320" cy="3886200"/>
            <a:chOff x="6400800" y="304920"/>
            <a:chExt cx="2362320" cy="3886200"/>
          </a:xfrm>
        </p:grpSpPr>
        <p:sp>
          <p:nvSpPr>
            <p:cNvPr id="95" name=""/>
            <p:cNvSpPr/>
            <p:nvPr/>
          </p:nvSpPr>
          <p:spPr>
            <a:xfrm>
              <a:off x="6477120" y="304920"/>
              <a:ext cx="2286000" cy="388620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503640 h 3886200"/>
                <a:gd name="textAreaBottom" fmla="*/ 338256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0800" y="927360"/>
              <a:ext cx="2286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8.Инструмент, рисующий любые ли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5" descr="C:\Documents and Settings\Наш дом\Local Settings\Temporary Internet Files\Content.IE5\OLUFOX63\dglxasset[1].aspx"/>
          <p:cNvPicPr/>
          <p:nvPr/>
        </p:nvPicPr>
        <p:blipFill>
          <a:blip r:embed="rId8"/>
          <a:stretch/>
        </p:blipFill>
        <p:spPr>
          <a:xfrm rot="17893200">
            <a:off x="6475320" y="839880"/>
            <a:ext cx="2387520" cy="16225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6477120" y="380880"/>
            <a:ext cx="2437920" cy="3886200"/>
            <a:chOff x="6477120" y="380880"/>
            <a:chExt cx="2437920" cy="3886200"/>
          </a:xfrm>
        </p:grpSpPr>
        <p:sp>
          <p:nvSpPr>
            <p:cNvPr id="99" name=""/>
            <p:cNvSpPr/>
            <p:nvPr/>
          </p:nvSpPr>
          <p:spPr>
            <a:xfrm>
              <a:off x="6477120" y="380880"/>
              <a:ext cx="2359440" cy="3886200"/>
            </a:xfrm>
            <a:custGeom>
              <a:avLst/>
              <a:gdLst>
                <a:gd name="textAreaLeft" fmla="*/ 0 w 2359440"/>
                <a:gd name="textAreaRight" fmla="*/ 2359440 w 2359440"/>
                <a:gd name="textAreaTop" fmla="*/ 503640 h 3886200"/>
                <a:gd name="textAreaBottom" fmla="*/ 338256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77120" y="1249560"/>
              <a:ext cx="243792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9.Инструмент</a:t>
              </a: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, позволяющий проводить тонкие произвольные линии или крив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5" descr="C:\Documents and Settings\Наш дом\Local Settings\Temporary Internet Files\Content.IE5\OLUFOX63\dglxasset[1].aspx"/>
          <p:cNvPicPr/>
          <p:nvPr/>
        </p:nvPicPr>
        <p:blipFill>
          <a:blip r:embed="rId9"/>
          <a:stretch/>
        </p:blipFill>
        <p:spPr>
          <a:xfrm rot="17893200">
            <a:off x="6475320" y="839880"/>
            <a:ext cx="2387520" cy="162252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6477120" y="380880"/>
            <a:ext cx="2361960" cy="3886200"/>
            <a:chOff x="6477120" y="380880"/>
            <a:chExt cx="2361960" cy="3886200"/>
          </a:xfrm>
        </p:grpSpPr>
        <p:sp>
          <p:nvSpPr>
            <p:cNvPr id="103" name=""/>
            <p:cNvSpPr/>
            <p:nvPr/>
          </p:nvSpPr>
          <p:spPr>
            <a:xfrm>
              <a:off x="6477120" y="380880"/>
              <a:ext cx="2361960" cy="388620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503640 h 3886200"/>
                <a:gd name="textAreaBottom" fmla="*/ 338256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53080" y="990720"/>
              <a:ext cx="213336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Georgia"/>
                </a:rPr>
                <a:t>10.Инструмент,   позволяющий проводить толстые или фигурные произвольные линии и крив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5" descr="C:\Documents and Settings\Наш дом\Local Settings\Temporary Internet Files\Content.IE5\OLUFOX63\dglxasset[1].aspx"/>
          <p:cNvPicPr/>
          <p:nvPr/>
        </p:nvPicPr>
        <p:blipFill>
          <a:blip r:embed="rId10"/>
          <a:stretch/>
        </p:blipFill>
        <p:spPr>
          <a:xfrm rot="17893200">
            <a:off x="6475320" y="839880"/>
            <a:ext cx="2387520" cy="162252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6477120" y="380880"/>
            <a:ext cx="2437920" cy="3886200"/>
            <a:chOff x="6477120" y="380880"/>
            <a:chExt cx="2437920" cy="3886200"/>
          </a:xfrm>
        </p:grpSpPr>
        <p:sp>
          <p:nvSpPr>
            <p:cNvPr id="107" name=""/>
            <p:cNvSpPr/>
            <p:nvPr/>
          </p:nvSpPr>
          <p:spPr>
            <a:xfrm>
              <a:off x="6477120" y="380880"/>
              <a:ext cx="2359440" cy="3886200"/>
            </a:xfrm>
            <a:custGeom>
              <a:avLst/>
              <a:gdLst>
                <a:gd name="textAreaLeft" fmla="*/ 0 w 2359440"/>
                <a:gd name="textAreaRight" fmla="*/ 2359440 w 2359440"/>
                <a:gd name="textAreaTop" fmla="*/ 503640 h 3886200"/>
                <a:gd name="textAreaBottom" fmla="*/ 338256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1194840"/>
              <a:ext cx="2437920" cy="25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11.Инструмент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для мгновенного закрашивания ограниченной области рисунк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5" descr="C:\Documents and Settings\Наш дом\Local Settings\Temporary Internet Files\Content.IE5\OLUFOX63\dglxasset[1].aspx"/>
          <p:cNvPicPr/>
          <p:nvPr/>
        </p:nvPicPr>
        <p:blipFill>
          <a:blip r:embed="rId11"/>
          <a:stretch/>
        </p:blipFill>
        <p:spPr>
          <a:xfrm rot="17893200">
            <a:off x="6475320" y="839880"/>
            <a:ext cx="2387520" cy="1622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19720" y="5867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л       с     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477120" y="380880"/>
            <a:ext cx="2437920" cy="3886200"/>
            <a:chOff x="6477120" y="380880"/>
            <a:chExt cx="2437920" cy="3886200"/>
          </a:xfrm>
        </p:grpSpPr>
        <p:sp>
          <p:nvSpPr>
            <p:cNvPr id="112" name=""/>
            <p:cNvSpPr/>
            <p:nvPr/>
          </p:nvSpPr>
          <p:spPr>
            <a:xfrm>
              <a:off x="6477120" y="380880"/>
              <a:ext cx="2359440" cy="3886200"/>
            </a:xfrm>
            <a:custGeom>
              <a:avLst/>
              <a:gdLst>
                <a:gd name="textAreaLeft" fmla="*/ 0 w 2359440"/>
                <a:gd name="textAreaRight" fmla="*/ 2359440 w 2359440"/>
                <a:gd name="textAreaTop" fmla="*/ 503640 h 3886200"/>
                <a:gd name="textAreaBottom" fmla="*/ 338256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1324440"/>
              <a:ext cx="2437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12.Инструмен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для стирания ненужных элементов рису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5" descr="C:\Documents and Settings\Наш дом\Local Settings\Temporary Internet Files\Content.IE5\OLUFOX63\dglxasset[1].aspx"/>
          <p:cNvPicPr/>
          <p:nvPr/>
        </p:nvPicPr>
        <p:blipFill>
          <a:blip r:embed="rId12"/>
          <a:stretch/>
        </p:blipFill>
        <p:spPr>
          <a:xfrm rot="17893200">
            <a:off x="6475320" y="839880"/>
            <a:ext cx="23875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371 L -0.00538 0.55718 E">
                                      <p:cBhvr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371 L -0.00538 0.55718 E">
                                      <p:cBhvr>
                                        <p:cTn id="2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371 L -0.00538 0.55718 E">
                                      <p:cBhvr>
                                        <p:cTn id="45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371 L -0.00538 0.55718 E">
                                      <p:cBhvr>
                                        <p:cTn id="6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371 L -0.00538 0.55718 E">
                                      <p:cBhvr>
                                        <p:cTn id="8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371 L -0.00538 0.55718 E">
                                      <p:cBhvr>
                                        <p:cTn id="9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371 L -0.00538 0.55718 E">
                                      <p:cBhvr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371 L -0.00538 0.55718 E">
                                      <p:cBhvr>
                                        <p:cTn id="13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371 L -0.00538 0.55718 E">
                                      <p:cBhvr>
                                        <p:cTn id="153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371 L -0.00538 0.55718 E">
                                      <p:cBhvr>
                                        <p:cTn id="17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371 L -0.00538 0.55718 E">
                                      <p:cBhvr>
                                        <p:cTn id="18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371 L -0.00538 0.55718 E">
                                      <p:cBhvr>
                                        <p:cTn id="20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505160" cy="1822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543800" y="457200"/>
            <a:ext cx="12286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3581640" cy="4336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400800" y="533520"/>
            <a:ext cx="1228680" cy="1796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2320920"/>
            <a:ext cx="9345600" cy="396720"/>
          </a:xfrm>
          <a:custGeom>
            <a:avLst/>
            <a:gdLst/>
            <a:ahLst/>
            <a:rect l="l" t="t" r="r" b="b"/>
            <a:pathLst>
              <a:path w="5887" h="250">
                <a:moveTo>
                  <a:pt x="0" y="240"/>
                </a:moveTo>
                <a:cubicBezTo>
                  <a:pt x="54" y="199"/>
                  <a:pt x="64" y="142"/>
                  <a:pt x="137" y="118"/>
                </a:cubicBezTo>
                <a:cubicBezTo>
                  <a:pt x="176" y="91"/>
                  <a:pt x="218" y="82"/>
                  <a:pt x="264" y="76"/>
                </a:cubicBezTo>
                <a:cubicBezTo>
                  <a:pt x="335" y="78"/>
                  <a:pt x="405" y="78"/>
                  <a:pt x="476" y="81"/>
                </a:cubicBezTo>
                <a:cubicBezTo>
                  <a:pt x="547" y="84"/>
                  <a:pt x="626" y="131"/>
                  <a:pt x="703" y="139"/>
                </a:cubicBezTo>
                <a:cubicBezTo>
                  <a:pt x="721" y="143"/>
                  <a:pt x="738" y="149"/>
                  <a:pt x="756" y="155"/>
                </a:cubicBezTo>
                <a:cubicBezTo>
                  <a:pt x="779" y="153"/>
                  <a:pt x="802" y="154"/>
                  <a:pt x="824" y="150"/>
                </a:cubicBezTo>
                <a:cubicBezTo>
                  <a:pt x="830" y="149"/>
                  <a:pt x="834" y="142"/>
                  <a:pt x="840" y="139"/>
                </a:cubicBezTo>
                <a:cubicBezTo>
                  <a:pt x="846" y="136"/>
                  <a:pt x="884" y="130"/>
                  <a:pt x="888" y="129"/>
                </a:cubicBezTo>
                <a:cubicBezTo>
                  <a:pt x="912" y="113"/>
                  <a:pt x="941" y="103"/>
                  <a:pt x="967" y="92"/>
                </a:cubicBezTo>
                <a:cubicBezTo>
                  <a:pt x="1024" y="68"/>
                  <a:pt x="1075" y="42"/>
                  <a:pt x="1136" y="28"/>
                </a:cubicBezTo>
                <a:cubicBezTo>
                  <a:pt x="1156" y="15"/>
                  <a:pt x="1148" y="18"/>
                  <a:pt x="1173" y="12"/>
                </a:cubicBezTo>
                <a:cubicBezTo>
                  <a:pt x="1187" y="8"/>
                  <a:pt x="1215" y="2"/>
                  <a:pt x="1215" y="2"/>
                </a:cubicBezTo>
                <a:cubicBezTo>
                  <a:pt x="1278" y="5"/>
                  <a:pt x="1355" y="0"/>
                  <a:pt x="1416" y="18"/>
                </a:cubicBezTo>
                <a:cubicBezTo>
                  <a:pt x="1443" y="35"/>
                  <a:pt x="1480" y="44"/>
                  <a:pt x="1511" y="49"/>
                </a:cubicBezTo>
                <a:cubicBezTo>
                  <a:pt x="1596" y="93"/>
                  <a:pt x="1680" y="128"/>
                  <a:pt x="1776" y="139"/>
                </a:cubicBezTo>
                <a:cubicBezTo>
                  <a:pt x="1816" y="152"/>
                  <a:pt x="1840" y="152"/>
                  <a:pt x="1887" y="155"/>
                </a:cubicBezTo>
                <a:cubicBezTo>
                  <a:pt x="1995" y="151"/>
                  <a:pt x="2016" y="147"/>
                  <a:pt x="2098" y="134"/>
                </a:cubicBezTo>
                <a:cubicBezTo>
                  <a:pt x="2143" y="110"/>
                  <a:pt x="2202" y="116"/>
                  <a:pt x="2251" y="113"/>
                </a:cubicBezTo>
                <a:cubicBezTo>
                  <a:pt x="2345" y="92"/>
                  <a:pt x="2446" y="78"/>
                  <a:pt x="2542" y="70"/>
                </a:cubicBezTo>
                <a:cubicBezTo>
                  <a:pt x="2643" y="73"/>
                  <a:pt x="2767" y="61"/>
                  <a:pt x="2864" y="107"/>
                </a:cubicBezTo>
                <a:cubicBezTo>
                  <a:pt x="2909" y="152"/>
                  <a:pt x="2961" y="161"/>
                  <a:pt x="3023" y="166"/>
                </a:cubicBezTo>
                <a:cubicBezTo>
                  <a:pt x="3118" y="197"/>
                  <a:pt x="3043" y="176"/>
                  <a:pt x="3255" y="171"/>
                </a:cubicBezTo>
                <a:cubicBezTo>
                  <a:pt x="3327" y="149"/>
                  <a:pt x="3386" y="95"/>
                  <a:pt x="3461" y="81"/>
                </a:cubicBezTo>
                <a:cubicBezTo>
                  <a:pt x="3518" y="58"/>
                  <a:pt x="3575" y="52"/>
                  <a:pt x="3636" y="44"/>
                </a:cubicBezTo>
                <a:cubicBezTo>
                  <a:pt x="3765" y="48"/>
                  <a:pt x="3758" y="47"/>
                  <a:pt x="3842" y="60"/>
                </a:cubicBezTo>
                <a:cubicBezTo>
                  <a:pt x="3888" y="89"/>
                  <a:pt x="3999" y="100"/>
                  <a:pt x="4053" y="107"/>
                </a:cubicBezTo>
                <a:cubicBezTo>
                  <a:pt x="4089" y="122"/>
                  <a:pt x="4115" y="129"/>
                  <a:pt x="4154" y="134"/>
                </a:cubicBezTo>
                <a:cubicBezTo>
                  <a:pt x="4186" y="155"/>
                  <a:pt x="4243" y="156"/>
                  <a:pt x="4280" y="160"/>
                </a:cubicBezTo>
                <a:cubicBezTo>
                  <a:pt x="4366" y="155"/>
                  <a:pt x="4449" y="138"/>
                  <a:pt x="4534" y="129"/>
                </a:cubicBezTo>
                <a:cubicBezTo>
                  <a:pt x="4554" y="115"/>
                  <a:pt x="4574" y="114"/>
                  <a:pt x="4597" y="107"/>
                </a:cubicBezTo>
                <a:cubicBezTo>
                  <a:pt x="4613" y="97"/>
                  <a:pt x="4628" y="93"/>
                  <a:pt x="4645" y="86"/>
                </a:cubicBezTo>
                <a:cubicBezTo>
                  <a:pt x="4676" y="55"/>
                  <a:pt x="4739" y="46"/>
                  <a:pt x="4782" y="39"/>
                </a:cubicBezTo>
                <a:cubicBezTo>
                  <a:pt x="4879" y="47"/>
                  <a:pt x="4976" y="52"/>
                  <a:pt x="5073" y="60"/>
                </a:cubicBezTo>
                <a:cubicBezTo>
                  <a:pt x="5103" y="69"/>
                  <a:pt x="5136" y="75"/>
                  <a:pt x="5163" y="92"/>
                </a:cubicBezTo>
                <a:cubicBezTo>
                  <a:pt x="5183" y="104"/>
                  <a:pt x="5194" y="121"/>
                  <a:pt x="5216" y="129"/>
                </a:cubicBezTo>
                <a:cubicBezTo>
                  <a:pt x="5232" y="152"/>
                  <a:pt x="5241" y="155"/>
                  <a:pt x="5269" y="160"/>
                </a:cubicBezTo>
                <a:cubicBezTo>
                  <a:pt x="5289" y="168"/>
                  <a:pt x="5302" y="178"/>
                  <a:pt x="5321" y="187"/>
                </a:cubicBezTo>
                <a:cubicBezTo>
                  <a:pt x="5342" y="197"/>
                  <a:pt x="5369" y="197"/>
                  <a:pt x="5390" y="208"/>
                </a:cubicBezTo>
                <a:cubicBezTo>
                  <a:pt x="5444" y="237"/>
                  <a:pt x="5398" y="226"/>
                  <a:pt x="5459" y="234"/>
                </a:cubicBezTo>
                <a:cubicBezTo>
                  <a:pt x="5516" y="250"/>
                  <a:pt x="5562" y="243"/>
                  <a:pt x="5623" y="240"/>
                </a:cubicBezTo>
                <a:cubicBezTo>
                  <a:pt x="5677" y="228"/>
                  <a:pt x="5732" y="221"/>
                  <a:pt x="5786" y="208"/>
                </a:cubicBezTo>
                <a:cubicBezTo>
                  <a:pt x="5807" y="193"/>
                  <a:pt x="5860" y="171"/>
                  <a:pt x="5887" y="1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638440" cy="3193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792440"/>
            <a:ext cx="9371160" cy="480960"/>
          </a:xfrm>
          <a:custGeom>
            <a:avLst/>
            <a:gdLst/>
            <a:ahLst/>
            <a:rect l="l" t="t" r="r" b="b"/>
            <a:pathLst>
              <a:path w="5903" h="303">
                <a:moveTo>
                  <a:pt x="0" y="303"/>
                </a:moveTo>
                <a:cubicBezTo>
                  <a:pt x="28" y="275"/>
                  <a:pt x="14" y="287"/>
                  <a:pt x="63" y="250"/>
                </a:cubicBezTo>
                <a:cubicBezTo>
                  <a:pt x="70" y="244"/>
                  <a:pt x="85" y="234"/>
                  <a:pt x="85" y="234"/>
                </a:cubicBezTo>
                <a:cubicBezTo>
                  <a:pt x="107" y="200"/>
                  <a:pt x="154" y="162"/>
                  <a:pt x="190" y="145"/>
                </a:cubicBezTo>
                <a:cubicBezTo>
                  <a:pt x="297" y="38"/>
                  <a:pt x="460" y="45"/>
                  <a:pt x="597" y="2"/>
                </a:cubicBezTo>
                <a:cubicBezTo>
                  <a:pt x="621" y="3"/>
                  <a:pt x="772" y="0"/>
                  <a:pt x="840" y="12"/>
                </a:cubicBezTo>
                <a:cubicBezTo>
                  <a:pt x="904" y="23"/>
                  <a:pt x="962" y="50"/>
                  <a:pt x="1025" y="60"/>
                </a:cubicBezTo>
                <a:cubicBezTo>
                  <a:pt x="1078" y="88"/>
                  <a:pt x="1134" y="106"/>
                  <a:pt x="1189" y="129"/>
                </a:cubicBezTo>
                <a:cubicBezTo>
                  <a:pt x="1209" y="158"/>
                  <a:pt x="1194" y="142"/>
                  <a:pt x="1242" y="166"/>
                </a:cubicBezTo>
                <a:lnTo>
                  <a:pt x="1242" y="166"/>
                </a:lnTo>
                <a:cubicBezTo>
                  <a:pt x="1291" y="215"/>
                  <a:pt x="1390" y="224"/>
                  <a:pt x="1453" y="229"/>
                </a:cubicBezTo>
                <a:cubicBezTo>
                  <a:pt x="1517" y="255"/>
                  <a:pt x="1513" y="251"/>
                  <a:pt x="1606" y="256"/>
                </a:cubicBezTo>
                <a:cubicBezTo>
                  <a:pt x="1719" y="253"/>
                  <a:pt x="1818" y="260"/>
                  <a:pt x="1924" y="240"/>
                </a:cubicBezTo>
                <a:cubicBezTo>
                  <a:pt x="1945" y="225"/>
                  <a:pt x="1968" y="224"/>
                  <a:pt x="1992" y="213"/>
                </a:cubicBezTo>
                <a:cubicBezTo>
                  <a:pt x="2055" y="185"/>
                  <a:pt x="2125" y="156"/>
                  <a:pt x="2193" y="145"/>
                </a:cubicBezTo>
                <a:cubicBezTo>
                  <a:pt x="2225" y="133"/>
                  <a:pt x="2259" y="128"/>
                  <a:pt x="2293" y="123"/>
                </a:cubicBezTo>
                <a:cubicBezTo>
                  <a:pt x="2372" y="98"/>
                  <a:pt x="2442" y="90"/>
                  <a:pt x="2526" y="86"/>
                </a:cubicBezTo>
                <a:cubicBezTo>
                  <a:pt x="2555" y="82"/>
                  <a:pt x="2577" y="78"/>
                  <a:pt x="2605" y="71"/>
                </a:cubicBezTo>
                <a:cubicBezTo>
                  <a:pt x="2784" y="74"/>
                  <a:pt x="2913" y="72"/>
                  <a:pt x="3076" y="108"/>
                </a:cubicBezTo>
                <a:cubicBezTo>
                  <a:pt x="3122" y="130"/>
                  <a:pt x="3146" y="130"/>
                  <a:pt x="3202" y="134"/>
                </a:cubicBezTo>
                <a:cubicBezTo>
                  <a:pt x="3235" y="144"/>
                  <a:pt x="3264" y="160"/>
                  <a:pt x="3297" y="171"/>
                </a:cubicBezTo>
                <a:cubicBezTo>
                  <a:pt x="3324" y="190"/>
                  <a:pt x="3303" y="178"/>
                  <a:pt x="3345" y="187"/>
                </a:cubicBezTo>
                <a:cubicBezTo>
                  <a:pt x="3359" y="190"/>
                  <a:pt x="3387" y="197"/>
                  <a:pt x="3387" y="197"/>
                </a:cubicBezTo>
                <a:cubicBezTo>
                  <a:pt x="3533" y="195"/>
                  <a:pt x="3680" y="195"/>
                  <a:pt x="3826" y="192"/>
                </a:cubicBezTo>
                <a:cubicBezTo>
                  <a:pt x="3871" y="191"/>
                  <a:pt x="3924" y="174"/>
                  <a:pt x="3969" y="166"/>
                </a:cubicBezTo>
                <a:cubicBezTo>
                  <a:pt x="4104" y="141"/>
                  <a:pt x="4244" y="119"/>
                  <a:pt x="4381" y="108"/>
                </a:cubicBezTo>
                <a:cubicBezTo>
                  <a:pt x="4458" y="110"/>
                  <a:pt x="4536" y="110"/>
                  <a:pt x="4613" y="113"/>
                </a:cubicBezTo>
                <a:cubicBezTo>
                  <a:pt x="4639" y="114"/>
                  <a:pt x="4668" y="122"/>
                  <a:pt x="4693" y="129"/>
                </a:cubicBezTo>
                <a:cubicBezTo>
                  <a:pt x="4703" y="132"/>
                  <a:pt x="4724" y="139"/>
                  <a:pt x="4724" y="139"/>
                </a:cubicBezTo>
                <a:cubicBezTo>
                  <a:pt x="4743" y="152"/>
                  <a:pt x="4761" y="153"/>
                  <a:pt x="4782" y="160"/>
                </a:cubicBezTo>
                <a:cubicBezTo>
                  <a:pt x="4836" y="197"/>
                  <a:pt x="4886" y="211"/>
                  <a:pt x="4951" y="219"/>
                </a:cubicBezTo>
                <a:cubicBezTo>
                  <a:pt x="5021" y="212"/>
                  <a:pt x="5009" y="205"/>
                  <a:pt x="5062" y="192"/>
                </a:cubicBezTo>
                <a:cubicBezTo>
                  <a:pt x="5102" y="167"/>
                  <a:pt x="5132" y="174"/>
                  <a:pt x="5184" y="171"/>
                </a:cubicBezTo>
                <a:cubicBezTo>
                  <a:pt x="5209" y="167"/>
                  <a:pt x="5229" y="161"/>
                  <a:pt x="5253" y="155"/>
                </a:cubicBezTo>
                <a:cubicBezTo>
                  <a:pt x="5360" y="158"/>
                  <a:pt x="5451" y="157"/>
                  <a:pt x="5554" y="176"/>
                </a:cubicBezTo>
                <a:cubicBezTo>
                  <a:pt x="5581" y="186"/>
                  <a:pt x="5598" y="188"/>
                  <a:pt x="5628" y="192"/>
                </a:cubicBezTo>
                <a:cubicBezTo>
                  <a:pt x="5676" y="207"/>
                  <a:pt x="5680" y="204"/>
                  <a:pt x="5749" y="208"/>
                </a:cubicBezTo>
                <a:cubicBezTo>
                  <a:pt x="5795" y="216"/>
                  <a:pt x="5887" y="224"/>
                  <a:pt x="5887" y="224"/>
                </a:cubicBezTo>
                <a:cubicBezTo>
                  <a:pt x="5892" y="226"/>
                  <a:pt x="5903" y="229"/>
                  <a:pt x="5903" y="2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162920" y="838080"/>
            <a:ext cx="1228680" cy="1797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895480" y="13716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792440"/>
            <a:ext cx="9371160" cy="480960"/>
          </a:xfrm>
          <a:custGeom>
            <a:avLst/>
            <a:gdLst/>
            <a:ahLst/>
            <a:rect l="l" t="t" r="r" b="b"/>
            <a:pathLst>
              <a:path w="5903" h="303">
                <a:moveTo>
                  <a:pt x="0" y="303"/>
                </a:moveTo>
                <a:cubicBezTo>
                  <a:pt x="28" y="275"/>
                  <a:pt x="14" y="287"/>
                  <a:pt x="63" y="250"/>
                </a:cubicBezTo>
                <a:cubicBezTo>
                  <a:pt x="70" y="244"/>
                  <a:pt x="85" y="234"/>
                  <a:pt x="85" y="234"/>
                </a:cubicBezTo>
                <a:cubicBezTo>
                  <a:pt x="107" y="200"/>
                  <a:pt x="154" y="162"/>
                  <a:pt x="190" y="145"/>
                </a:cubicBezTo>
                <a:cubicBezTo>
                  <a:pt x="297" y="38"/>
                  <a:pt x="460" y="45"/>
                  <a:pt x="597" y="2"/>
                </a:cubicBezTo>
                <a:cubicBezTo>
                  <a:pt x="621" y="3"/>
                  <a:pt x="772" y="0"/>
                  <a:pt x="840" y="12"/>
                </a:cubicBezTo>
                <a:cubicBezTo>
                  <a:pt x="904" y="23"/>
                  <a:pt x="962" y="50"/>
                  <a:pt x="1025" y="60"/>
                </a:cubicBezTo>
                <a:cubicBezTo>
                  <a:pt x="1078" y="88"/>
                  <a:pt x="1134" y="106"/>
                  <a:pt x="1189" y="129"/>
                </a:cubicBezTo>
                <a:cubicBezTo>
                  <a:pt x="1209" y="158"/>
                  <a:pt x="1194" y="142"/>
                  <a:pt x="1242" y="166"/>
                </a:cubicBezTo>
                <a:lnTo>
                  <a:pt x="1242" y="166"/>
                </a:lnTo>
                <a:cubicBezTo>
                  <a:pt x="1291" y="215"/>
                  <a:pt x="1390" y="224"/>
                  <a:pt x="1453" y="229"/>
                </a:cubicBezTo>
                <a:cubicBezTo>
                  <a:pt x="1517" y="255"/>
                  <a:pt x="1513" y="251"/>
                  <a:pt x="1606" y="256"/>
                </a:cubicBezTo>
                <a:cubicBezTo>
                  <a:pt x="1719" y="253"/>
                  <a:pt x="1818" y="260"/>
                  <a:pt x="1924" y="240"/>
                </a:cubicBezTo>
                <a:cubicBezTo>
                  <a:pt x="1945" y="225"/>
                  <a:pt x="1968" y="224"/>
                  <a:pt x="1992" y="213"/>
                </a:cubicBezTo>
                <a:cubicBezTo>
                  <a:pt x="2055" y="185"/>
                  <a:pt x="2125" y="156"/>
                  <a:pt x="2193" y="145"/>
                </a:cubicBezTo>
                <a:cubicBezTo>
                  <a:pt x="2225" y="133"/>
                  <a:pt x="2259" y="128"/>
                  <a:pt x="2293" y="123"/>
                </a:cubicBezTo>
                <a:cubicBezTo>
                  <a:pt x="2372" y="98"/>
                  <a:pt x="2442" y="90"/>
                  <a:pt x="2526" y="86"/>
                </a:cubicBezTo>
                <a:cubicBezTo>
                  <a:pt x="2555" y="82"/>
                  <a:pt x="2577" y="78"/>
                  <a:pt x="2605" y="71"/>
                </a:cubicBezTo>
                <a:cubicBezTo>
                  <a:pt x="2784" y="74"/>
                  <a:pt x="2913" y="72"/>
                  <a:pt x="3076" y="108"/>
                </a:cubicBezTo>
                <a:cubicBezTo>
                  <a:pt x="3122" y="130"/>
                  <a:pt x="3146" y="130"/>
                  <a:pt x="3202" y="134"/>
                </a:cubicBezTo>
                <a:cubicBezTo>
                  <a:pt x="3235" y="144"/>
                  <a:pt x="3264" y="160"/>
                  <a:pt x="3297" y="171"/>
                </a:cubicBezTo>
                <a:cubicBezTo>
                  <a:pt x="3324" y="190"/>
                  <a:pt x="3303" y="178"/>
                  <a:pt x="3345" y="187"/>
                </a:cubicBezTo>
                <a:cubicBezTo>
                  <a:pt x="3359" y="190"/>
                  <a:pt x="3387" y="197"/>
                  <a:pt x="3387" y="197"/>
                </a:cubicBezTo>
                <a:cubicBezTo>
                  <a:pt x="3533" y="195"/>
                  <a:pt x="3680" y="195"/>
                  <a:pt x="3826" y="192"/>
                </a:cubicBezTo>
                <a:cubicBezTo>
                  <a:pt x="3871" y="191"/>
                  <a:pt x="3924" y="174"/>
                  <a:pt x="3969" y="166"/>
                </a:cubicBezTo>
                <a:cubicBezTo>
                  <a:pt x="4104" y="141"/>
                  <a:pt x="4244" y="119"/>
                  <a:pt x="4381" y="108"/>
                </a:cubicBezTo>
                <a:cubicBezTo>
                  <a:pt x="4458" y="110"/>
                  <a:pt x="4536" y="110"/>
                  <a:pt x="4613" y="113"/>
                </a:cubicBezTo>
                <a:cubicBezTo>
                  <a:pt x="4639" y="114"/>
                  <a:pt x="4668" y="122"/>
                  <a:pt x="4693" y="129"/>
                </a:cubicBezTo>
                <a:cubicBezTo>
                  <a:pt x="4703" y="132"/>
                  <a:pt x="4724" y="139"/>
                  <a:pt x="4724" y="139"/>
                </a:cubicBezTo>
                <a:cubicBezTo>
                  <a:pt x="4743" y="152"/>
                  <a:pt x="4761" y="153"/>
                  <a:pt x="4782" y="160"/>
                </a:cubicBezTo>
                <a:cubicBezTo>
                  <a:pt x="4836" y="197"/>
                  <a:pt x="4886" y="211"/>
                  <a:pt x="4951" y="219"/>
                </a:cubicBezTo>
                <a:cubicBezTo>
                  <a:pt x="5021" y="212"/>
                  <a:pt x="5009" y="205"/>
                  <a:pt x="5062" y="192"/>
                </a:cubicBezTo>
                <a:cubicBezTo>
                  <a:pt x="5102" y="167"/>
                  <a:pt x="5132" y="174"/>
                  <a:pt x="5184" y="171"/>
                </a:cubicBezTo>
                <a:cubicBezTo>
                  <a:pt x="5209" y="167"/>
                  <a:pt x="5229" y="161"/>
                  <a:pt x="5253" y="155"/>
                </a:cubicBezTo>
                <a:cubicBezTo>
                  <a:pt x="5360" y="158"/>
                  <a:pt x="5451" y="157"/>
                  <a:pt x="5554" y="176"/>
                </a:cubicBezTo>
                <a:cubicBezTo>
                  <a:pt x="5581" y="186"/>
                  <a:pt x="5598" y="188"/>
                  <a:pt x="5628" y="192"/>
                </a:cubicBezTo>
                <a:cubicBezTo>
                  <a:pt x="5676" y="207"/>
                  <a:pt x="5680" y="204"/>
                  <a:pt x="5749" y="208"/>
                </a:cubicBezTo>
                <a:cubicBezTo>
                  <a:pt x="5795" y="216"/>
                  <a:pt x="5887" y="224"/>
                  <a:pt x="5887" y="224"/>
                </a:cubicBezTo>
                <a:cubicBezTo>
                  <a:pt x="5892" y="226"/>
                  <a:pt x="5903" y="229"/>
                  <a:pt x="5903" y="2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76920" y="76320"/>
            <a:ext cx="3805200" cy="5562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85720" y="160020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792440"/>
            <a:ext cx="9371160" cy="480960"/>
          </a:xfrm>
          <a:custGeom>
            <a:avLst/>
            <a:gdLst/>
            <a:ahLst/>
            <a:rect l="l" t="t" r="r" b="b"/>
            <a:pathLst>
              <a:path w="5903" h="303">
                <a:moveTo>
                  <a:pt x="0" y="303"/>
                </a:moveTo>
                <a:cubicBezTo>
                  <a:pt x="28" y="275"/>
                  <a:pt x="14" y="287"/>
                  <a:pt x="63" y="250"/>
                </a:cubicBezTo>
                <a:cubicBezTo>
                  <a:pt x="70" y="244"/>
                  <a:pt x="85" y="234"/>
                  <a:pt x="85" y="234"/>
                </a:cubicBezTo>
                <a:cubicBezTo>
                  <a:pt x="107" y="200"/>
                  <a:pt x="154" y="162"/>
                  <a:pt x="190" y="145"/>
                </a:cubicBezTo>
                <a:cubicBezTo>
                  <a:pt x="297" y="38"/>
                  <a:pt x="460" y="45"/>
                  <a:pt x="597" y="2"/>
                </a:cubicBezTo>
                <a:cubicBezTo>
                  <a:pt x="621" y="3"/>
                  <a:pt x="772" y="0"/>
                  <a:pt x="840" y="12"/>
                </a:cubicBezTo>
                <a:cubicBezTo>
                  <a:pt x="904" y="23"/>
                  <a:pt x="962" y="50"/>
                  <a:pt x="1025" y="60"/>
                </a:cubicBezTo>
                <a:cubicBezTo>
                  <a:pt x="1078" y="88"/>
                  <a:pt x="1134" y="106"/>
                  <a:pt x="1189" y="129"/>
                </a:cubicBezTo>
                <a:cubicBezTo>
                  <a:pt x="1209" y="158"/>
                  <a:pt x="1194" y="142"/>
                  <a:pt x="1242" y="166"/>
                </a:cubicBezTo>
                <a:lnTo>
                  <a:pt x="1242" y="166"/>
                </a:lnTo>
                <a:cubicBezTo>
                  <a:pt x="1291" y="215"/>
                  <a:pt x="1390" y="224"/>
                  <a:pt x="1453" y="229"/>
                </a:cubicBezTo>
                <a:cubicBezTo>
                  <a:pt x="1517" y="255"/>
                  <a:pt x="1513" y="251"/>
                  <a:pt x="1606" y="256"/>
                </a:cubicBezTo>
                <a:cubicBezTo>
                  <a:pt x="1719" y="253"/>
                  <a:pt x="1818" y="260"/>
                  <a:pt x="1924" y="240"/>
                </a:cubicBezTo>
                <a:cubicBezTo>
                  <a:pt x="1945" y="225"/>
                  <a:pt x="1968" y="224"/>
                  <a:pt x="1992" y="213"/>
                </a:cubicBezTo>
                <a:cubicBezTo>
                  <a:pt x="2055" y="185"/>
                  <a:pt x="2125" y="156"/>
                  <a:pt x="2193" y="145"/>
                </a:cubicBezTo>
                <a:cubicBezTo>
                  <a:pt x="2225" y="133"/>
                  <a:pt x="2259" y="128"/>
                  <a:pt x="2293" y="123"/>
                </a:cubicBezTo>
                <a:cubicBezTo>
                  <a:pt x="2372" y="98"/>
                  <a:pt x="2442" y="90"/>
                  <a:pt x="2526" y="86"/>
                </a:cubicBezTo>
                <a:cubicBezTo>
                  <a:pt x="2555" y="82"/>
                  <a:pt x="2577" y="78"/>
                  <a:pt x="2605" y="71"/>
                </a:cubicBezTo>
                <a:cubicBezTo>
                  <a:pt x="2784" y="74"/>
                  <a:pt x="2913" y="72"/>
                  <a:pt x="3076" y="108"/>
                </a:cubicBezTo>
                <a:cubicBezTo>
                  <a:pt x="3122" y="130"/>
                  <a:pt x="3146" y="130"/>
                  <a:pt x="3202" y="134"/>
                </a:cubicBezTo>
                <a:cubicBezTo>
                  <a:pt x="3235" y="144"/>
                  <a:pt x="3264" y="160"/>
                  <a:pt x="3297" y="171"/>
                </a:cubicBezTo>
                <a:cubicBezTo>
                  <a:pt x="3324" y="190"/>
                  <a:pt x="3303" y="178"/>
                  <a:pt x="3345" y="187"/>
                </a:cubicBezTo>
                <a:cubicBezTo>
                  <a:pt x="3359" y="190"/>
                  <a:pt x="3387" y="197"/>
                  <a:pt x="3387" y="197"/>
                </a:cubicBezTo>
                <a:cubicBezTo>
                  <a:pt x="3533" y="195"/>
                  <a:pt x="3680" y="195"/>
                  <a:pt x="3826" y="192"/>
                </a:cubicBezTo>
                <a:cubicBezTo>
                  <a:pt x="3871" y="191"/>
                  <a:pt x="3924" y="174"/>
                  <a:pt x="3969" y="166"/>
                </a:cubicBezTo>
                <a:cubicBezTo>
                  <a:pt x="4104" y="141"/>
                  <a:pt x="4244" y="119"/>
                  <a:pt x="4381" y="108"/>
                </a:cubicBezTo>
                <a:cubicBezTo>
                  <a:pt x="4458" y="110"/>
                  <a:pt x="4536" y="110"/>
                  <a:pt x="4613" y="113"/>
                </a:cubicBezTo>
                <a:cubicBezTo>
                  <a:pt x="4639" y="114"/>
                  <a:pt x="4668" y="122"/>
                  <a:pt x="4693" y="129"/>
                </a:cubicBezTo>
                <a:cubicBezTo>
                  <a:pt x="4703" y="132"/>
                  <a:pt x="4724" y="139"/>
                  <a:pt x="4724" y="139"/>
                </a:cubicBezTo>
                <a:cubicBezTo>
                  <a:pt x="4743" y="152"/>
                  <a:pt x="4761" y="153"/>
                  <a:pt x="4782" y="160"/>
                </a:cubicBezTo>
                <a:cubicBezTo>
                  <a:pt x="4836" y="197"/>
                  <a:pt x="4886" y="211"/>
                  <a:pt x="4951" y="219"/>
                </a:cubicBezTo>
                <a:cubicBezTo>
                  <a:pt x="5021" y="212"/>
                  <a:pt x="5009" y="205"/>
                  <a:pt x="5062" y="192"/>
                </a:cubicBezTo>
                <a:cubicBezTo>
                  <a:pt x="5102" y="167"/>
                  <a:pt x="5132" y="174"/>
                  <a:pt x="5184" y="171"/>
                </a:cubicBezTo>
                <a:cubicBezTo>
                  <a:pt x="5209" y="167"/>
                  <a:pt x="5229" y="161"/>
                  <a:pt x="5253" y="155"/>
                </a:cubicBezTo>
                <a:cubicBezTo>
                  <a:pt x="5360" y="158"/>
                  <a:pt x="5451" y="157"/>
                  <a:pt x="5554" y="176"/>
                </a:cubicBezTo>
                <a:cubicBezTo>
                  <a:pt x="5581" y="186"/>
                  <a:pt x="5598" y="188"/>
                  <a:pt x="5628" y="192"/>
                </a:cubicBezTo>
                <a:cubicBezTo>
                  <a:pt x="5676" y="207"/>
                  <a:pt x="5680" y="204"/>
                  <a:pt x="5749" y="208"/>
                </a:cubicBezTo>
                <a:cubicBezTo>
                  <a:pt x="5795" y="216"/>
                  <a:pt x="5887" y="224"/>
                  <a:pt x="5887" y="224"/>
                </a:cubicBezTo>
                <a:cubicBezTo>
                  <a:pt x="5892" y="226"/>
                  <a:pt x="5903" y="229"/>
                  <a:pt x="5903" y="2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29200" y="533520"/>
            <a:ext cx="3962520" cy="5790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04920" y="2286000"/>
            <a:ext cx="2395440" cy="2666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flipH="1">
            <a:off x="2362320" y="4114800"/>
            <a:ext cx="1720800" cy="1166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rcRect l="-4691" t="33718" r="81192" b="45223"/>
          <a:stretch/>
        </p:blipFill>
        <p:spPr>
          <a:xfrm>
            <a:off x="1219320" y="1219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rcRect l="-4691" t="33718" r="81192" b="45223"/>
          <a:stretch/>
        </p:blipFill>
        <p:spPr>
          <a:xfrm>
            <a:off x="2895480" y="10666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rcRect l="-4691" t="33718" r="81192" b="45223"/>
          <a:stretch/>
        </p:blipFill>
        <p:spPr>
          <a:xfrm>
            <a:off x="4419720" y="4876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rcRect l="-4691" t="33718" r="81192" b="45223"/>
          <a:stretch/>
        </p:blipFill>
        <p:spPr>
          <a:xfrm>
            <a:off x="3200400" y="55627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rcRect l="-4691" t="33718" r="81192" b="45223"/>
          <a:stretch/>
        </p:blipFill>
        <p:spPr>
          <a:xfrm>
            <a:off x="990720" y="52578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rcRect l="-4691" t="33718" r="81192" b="45223"/>
          <a:stretch/>
        </p:blipFill>
        <p:spPr>
          <a:xfrm>
            <a:off x="4800600" y="1447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rcRect l="-4691" t="33718" r="81192" b="45223"/>
          <a:stretch/>
        </p:blipFill>
        <p:spPr>
          <a:xfrm>
            <a:off x="7543800" y="762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2"/>
          <a:srcRect l="-4691" t="33718" r="81192" b="45223"/>
          <a:stretch/>
        </p:blipFill>
        <p:spPr>
          <a:xfrm>
            <a:off x="3048120" y="3049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3"/>
          <a:srcRect l="-4691" t="33718" r="81192" b="45223"/>
          <a:stretch/>
        </p:blipFill>
        <p:spPr>
          <a:xfrm>
            <a:off x="1828800" y="457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4"/>
          <a:srcRect l="-4691" t="33718" r="81192" b="45223"/>
          <a:stretch/>
        </p:blipFill>
        <p:spPr>
          <a:xfrm>
            <a:off x="4876920" y="457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5"/>
          <a:srcRect l="-4691" t="33718" r="81192" b="45223"/>
          <a:stretch/>
        </p:blipFill>
        <p:spPr>
          <a:xfrm>
            <a:off x="6781680" y="533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6"/>
          <a:srcRect l="-4691" t="33718" r="81192" b="45223"/>
          <a:stretch/>
        </p:blipFill>
        <p:spPr>
          <a:xfrm>
            <a:off x="3962520" y="7621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7"/>
          <a:srcRect l="-4691" t="33718" r="81192" b="45223"/>
          <a:stretch/>
        </p:blipFill>
        <p:spPr>
          <a:xfrm>
            <a:off x="8229600" y="457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8"/>
          <a:srcRect l="-4691" t="33718" r="81192" b="45223"/>
          <a:stretch/>
        </p:blipFill>
        <p:spPr>
          <a:xfrm>
            <a:off x="152280" y="3808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9"/>
          <a:srcRect l="-4691" t="33718" r="81192" b="45223"/>
          <a:stretch/>
        </p:blipFill>
        <p:spPr>
          <a:xfrm>
            <a:off x="2133720" y="2362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0"/>
          <a:srcRect l="-4691" t="33718" r="81192" b="45223"/>
          <a:stretch/>
        </p:blipFill>
        <p:spPr>
          <a:xfrm>
            <a:off x="2362320" y="1600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1"/>
          <a:srcRect l="-4691" t="33718" r="81192" b="45223"/>
          <a:stretch/>
        </p:blipFill>
        <p:spPr>
          <a:xfrm>
            <a:off x="7010280" y="12952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2"/>
          <a:srcRect l="-4691" t="33718" r="81192" b="45223"/>
          <a:stretch/>
        </p:blipFill>
        <p:spPr>
          <a:xfrm>
            <a:off x="8458200" y="17524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3"/>
          <a:srcRect l="-4691" t="33718" r="81192" b="45223"/>
          <a:stretch/>
        </p:blipFill>
        <p:spPr>
          <a:xfrm>
            <a:off x="457200" y="12193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reeform 37"/>
          <p:cNvSpPr/>
          <p:nvPr/>
        </p:nvSpPr>
        <p:spPr>
          <a:xfrm>
            <a:off x="1241280" y="3522600"/>
            <a:ext cx="7115400" cy="2509920"/>
          </a:xfrm>
          <a:prstGeom prst="pi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6"/>
          <p:cNvSpPr/>
          <p:nvPr/>
        </p:nvSpPr>
        <p:spPr>
          <a:xfrm>
            <a:off x="2771640" y="3284640"/>
            <a:ext cx="4896000" cy="792000"/>
          </a:xfrm>
          <a:prstGeom prst="wedgeEllipseCallout">
            <a:avLst>
              <a:gd name="adj1" fmla="val -33722"/>
              <a:gd name="adj2" fmla="val 1753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pelikan"/>
          <p:cNvPicPr/>
          <p:nvPr/>
        </p:nvPicPr>
        <p:blipFill>
          <a:blip r:embed="rId2"/>
          <a:srcRect l="0" t="0" r="1570" b="52589"/>
          <a:stretch/>
        </p:blipFill>
        <p:spPr>
          <a:xfrm>
            <a:off x="3203640" y="4975200"/>
            <a:ext cx="3168720" cy="14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00220_"/>
          <p:cNvPicPr/>
          <p:nvPr/>
        </p:nvPicPr>
        <p:blipFill>
          <a:blip r:embed="rId3"/>
          <a:srcRect l="90721" t="0" r="0" b="0"/>
          <a:stretch/>
        </p:blipFill>
        <p:spPr>
          <a:xfrm>
            <a:off x="324000" y="4724280"/>
            <a:ext cx="433080" cy="1992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00220_"/>
          <p:cNvPicPr/>
          <p:nvPr/>
        </p:nvPicPr>
        <p:blipFill>
          <a:blip r:embed="rId4"/>
          <a:srcRect l="35916" t="0" r="50883" b="0"/>
          <a:stretch/>
        </p:blipFill>
        <p:spPr>
          <a:xfrm>
            <a:off x="179280" y="2421000"/>
            <a:ext cx="541440" cy="2016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00220_"/>
          <p:cNvPicPr/>
          <p:nvPr/>
        </p:nvPicPr>
        <p:blipFill>
          <a:blip r:embed="rId5">
            <a:lum bright="24000"/>
          </a:blip>
          <a:srcRect l="0" t="51044" r="0" b="37626"/>
          <a:stretch/>
        </p:blipFill>
        <p:spPr>
          <a:xfrm>
            <a:off x="971640" y="189000"/>
            <a:ext cx="2016000" cy="503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00220_"/>
          <p:cNvPicPr/>
          <p:nvPr/>
        </p:nvPicPr>
        <p:blipFill>
          <a:blip r:embed="rId6"/>
          <a:srcRect l="64254" t="0" r="22498" b="0"/>
          <a:stretch/>
        </p:blipFill>
        <p:spPr>
          <a:xfrm>
            <a:off x="179280" y="189000"/>
            <a:ext cx="576360" cy="201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00220_"/>
          <p:cNvPicPr/>
          <p:nvPr/>
        </p:nvPicPr>
        <p:blipFill>
          <a:blip r:embed="rId7"/>
          <a:srcRect l="0" t="11329" r="0" b="75423"/>
          <a:stretch/>
        </p:blipFill>
        <p:spPr>
          <a:xfrm>
            <a:off x="3564000" y="189000"/>
            <a:ext cx="1944720" cy="64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00220_"/>
          <p:cNvPicPr/>
          <p:nvPr/>
        </p:nvPicPr>
        <p:blipFill>
          <a:blip r:embed="rId8"/>
          <a:srcRect l="0" t="37664" r="0" b="50883"/>
          <a:stretch/>
        </p:blipFill>
        <p:spPr>
          <a:xfrm>
            <a:off x="6012000" y="189000"/>
            <a:ext cx="2016000" cy="50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00220_"/>
          <p:cNvPicPr/>
          <p:nvPr/>
        </p:nvPicPr>
        <p:blipFill>
          <a:blip r:embed="rId9"/>
          <a:srcRect l="0" t="0" r="90721" b="0"/>
          <a:stretch/>
        </p:blipFill>
        <p:spPr>
          <a:xfrm>
            <a:off x="8459640" y="189000"/>
            <a:ext cx="433440" cy="1992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00220_"/>
          <p:cNvPicPr/>
          <p:nvPr/>
        </p:nvPicPr>
        <p:blipFill>
          <a:blip r:embed="rId10">
            <a:lum bright="24000"/>
          </a:blip>
          <a:srcRect l="37626" t="0" r="51044" b="0"/>
          <a:stretch/>
        </p:blipFill>
        <p:spPr>
          <a:xfrm>
            <a:off x="8459640" y="2421000"/>
            <a:ext cx="505080" cy="201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00220_"/>
          <p:cNvPicPr/>
          <p:nvPr/>
        </p:nvPicPr>
        <p:blipFill>
          <a:blip r:embed="rId11"/>
          <a:srcRect l="22498" t="0" r="64254" b="0"/>
          <a:stretch/>
        </p:blipFill>
        <p:spPr>
          <a:xfrm>
            <a:off x="8388360" y="4653000"/>
            <a:ext cx="576360" cy="201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cat27"/>
          <p:cNvPicPr/>
          <p:nvPr/>
        </p:nvPicPr>
        <p:blipFill>
          <a:blip r:embed="rId12"/>
          <a:stretch/>
        </p:blipFill>
        <p:spPr>
          <a:xfrm>
            <a:off x="4067280" y="1700280"/>
            <a:ext cx="1574640" cy="2587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XTREE31"/>
          <p:cNvPicPr/>
          <p:nvPr/>
        </p:nvPicPr>
        <p:blipFill>
          <a:blip r:embed="rId13"/>
          <a:stretch/>
        </p:blipFill>
        <p:spPr>
          <a:xfrm>
            <a:off x="6300720" y="549360"/>
            <a:ext cx="2259000" cy="2859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rabit"/>
          <p:cNvPicPr/>
          <p:nvPr/>
        </p:nvPicPr>
        <p:blipFill>
          <a:blip r:embed="rId14">
            <a:lum bright="-12000"/>
          </a:blip>
          <a:stretch/>
        </p:blipFill>
        <p:spPr>
          <a:xfrm>
            <a:off x="1042920" y="2852640"/>
            <a:ext cx="1728720" cy="1652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119"/>
          <p:cNvPicPr/>
          <p:nvPr/>
        </p:nvPicPr>
        <p:blipFill>
          <a:blip r:embed="rId15"/>
          <a:stretch/>
        </p:blipFill>
        <p:spPr>
          <a:xfrm>
            <a:off x="0" y="2781360"/>
            <a:ext cx="1324080" cy="1582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blume049"/>
          <p:cNvPicPr/>
          <p:nvPr/>
        </p:nvPicPr>
        <p:blipFill>
          <a:blip r:embed="rId16"/>
          <a:stretch/>
        </p:blipFill>
        <p:spPr>
          <a:xfrm>
            <a:off x="1547640" y="4365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1" descr="blume049"/>
          <p:cNvPicPr/>
          <p:nvPr/>
        </p:nvPicPr>
        <p:blipFill>
          <a:blip r:embed="rId17"/>
          <a:stretch/>
        </p:blipFill>
        <p:spPr>
          <a:xfrm>
            <a:off x="4284720" y="314172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2" descr="blume049"/>
          <p:cNvPicPr/>
          <p:nvPr/>
        </p:nvPicPr>
        <p:blipFill>
          <a:blip r:embed="rId18"/>
          <a:stretch/>
        </p:blipFill>
        <p:spPr>
          <a:xfrm>
            <a:off x="6804000" y="4221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7" descr="0a4f488923716b024ee68941527cf924"/>
          <p:cNvPicPr/>
          <p:nvPr/>
        </p:nvPicPr>
        <p:blipFill>
          <a:blip r:embed="rId19">
            <a:lum bright="-6000"/>
          </a:blip>
          <a:stretch/>
        </p:blipFill>
        <p:spPr>
          <a:xfrm>
            <a:off x="1403280" y="1700280"/>
            <a:ext cx="1522440" cy="2160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3" descr="65faa995e8495198efec9f89623bb9a7"/>
          <p:cNvPicPr/>
          <p:nvPr/>
        </p:nvPicPr>
        <p:blipFill>
          <a:blip r:embed="rId20"/>
          <a:stretch/>
        </p:blipFill>
        <p:spPr>
          <a:xfrm>
            <a:off x="2771640" y="2565360"/>
            <a:ext cx="1656000" cy="1373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" action="ppaction://media"/>
          </p:cNvPr>
          <p:cNvPicPr/>
          <p:nvPr>
            <a:audioFile r:link="rId21"/>
            <p:extLst>
              <p:ext uri="{DAA4B4D4-6D71-4841-9C94-3DE7FCFB9230}">
                <p14:media r:link="rId22"/>
              </p:ext>
            </p:extLst>
          </p:nvPr>
        </p:nvPicPr>
        <p:blipFill>
          <a:blip r:embed="rId23"/>
          <a:stretch>
            <a:fillRect/>
          </a:stretch>
        </p:blipFill>
        <p:spPr>
          <a:xfrm>
            <a:off x="802800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7500"/>
                            </p:stCondLst>
                            <p:childTnLst>
                              <p:par>
                                <p:cTn id="3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9000"/>
                            </p:stCondLst>
                            <p:childTnLst>
                              <p:par>
                                <p:cTn id="3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9500"/>
                            </p:stCondLst>
                            <p:childTnLst>
                              <p:par>
                                <p:cTn id="3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2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889 -0.05046 L -0.22135 -0.05046 L -0.22135 -0.57014 L 0.18889 -0.57014 L 0.18889 -0.05046 Z">
                                      <p:cBhvr>
                                        <p:cTn id="373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7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5416 L -0.16875 0.22453 C -0.20469 0.26296 -0.25833 0.28495 -0.31389 0.28495 C -0.37778 0.28495 -0.42882 0.26296 -0.46476 0.22453 L -0.63542 0.05416 E">
                                      <p:cBhvr>
                                        <p:cTn id="39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393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542 0.05416 L -0.46458 0.225 C -0.42865 0.26342 -0.375 0.28518 -0.31927 0.28518 C -0.25538 0.28518 -0.20451 0.26342 -0.16858 0.225 L 0.00243 0.05416 E">
                                      <p:cBhvr>
                                        <p:cTn id="39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1500"/>
                            </p:stCondLst>
                            <p:childTnLst>
                              <p:par>
                                <p:cTn id="396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5416 L -0.16892 0.225 C -0.20451 0.26342 -0.25816 0.28518 -0.31406 0.28518 C -0.37778 0.28518 -0.42882 0.26342 -0.46458 0.225 L -0.63542 0.05416 E">
                                      <p:cBhvr>
                                        <p:cTn id="39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3500"/>
                            </p:stCondLst>
                            <p:childTnLst>
                              <p:par>
                                <p:cTn id="399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542 0.05416 L -0.46458 0.22476 C -0.42865 0.26342 -0.375 0.28518 -0.31927 0.28518 C -0.25538 0.28518 -0.20451 0.26342 -0.16858 0.22476 L 0.00243 0.05416 E">
                                      <p:cBhvr>
                                        <p:cTn id="40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4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600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1000"/>
                            </p:stCondLst>
                            <p:childTnLst>
                              <p:par>
                                <p:cTn id="4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1500"/>
                            </p:stCondLst>
                            <p:childTnLst>
                              <p:par>
                                <p:cTn id="4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3500"/>
                            </p:stCondLst>
                            <p:childTnLst>
                              <p:par>
                                <p:cTn id="429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5500"/>
                            </p:stCondLst>
                            <p:childTnLst>
                              <p:par>
                                <p:cTn id="433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7500"/>
                            </p:stCondLst>
                            <p:childTnLst>
                              <p:par>
                                <p:cTn id="4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8000"/>
                            </p:stCondLst>
                            <p:childTnLst>
                              <p:par>
                                <p:cTn id="4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8500"/>
                            </p:stCondLst>
                            <p:childTnLst>
                              <p:par>
                                <p:cTn id="4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9000"/>
                            </p:stCondLst>
                            <p:childTnLst>
                              <p:par>
                                <p:cTn id="4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1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0.3585 -0.00555 E">
                                      <p:cBhvr>
                                        <p:cTn id="466" dur="5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6000"/>
                            </p:stCondLst>
                            <p:childTnLst>
                              <p:par>
                                <p:cTn id="46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4-04-09T04:54:0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